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F71-072A-49CE-8938-157B36EE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914-1172-4BE6-8CD3-029FE933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503-37AD-4CDB-AC71-CCE1E439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7E2F-7EFE-4BDC-B9D7-4F5EA3CB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A620-A1FE-4CE2-9DB9-79D4467B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5B6B-8D6A-4E86-AC58-9646F17D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6909-917A-4109-AAFA-35FD94D7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B5CC-63E2-420E-88D6-71E0AE0A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624C-295B-4659-B3F4-A44E2D12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0D23-A463-43D2-A6FA-91FB5F82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4D19-CA30-4E63-A6FB-0508B35F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12AA-3044-400B-ACA7-DF916D09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4139-30B3-4827-A00E-3B0303B8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9938-2B0F-4494-83A4-2B593307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F217-BFF6-47D6-BB93-A7434743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89B0-87D9-4BD7-93E3-80B60362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DCEE-F9B8-4A88-9179-D446A15D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AC6C-98AA-4811-A0DC-239D28CF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2AA-AE37-4D21-92A7-EDC56F83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BC56-B8F5-4E5A-AA52-207BFE33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0DC4-7CE9-49E7-9A1D-9525D7B2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475-4D27-404E-BEBB-4E880E2B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4CD-2A57-45C8-9252-5077EBA8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2C5-4CB7-46A3-BDEA-24B39B15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B9B3-FD57-4F38-9699-B933CEEFEB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38BE-7C60-4841-A66B-6A777248EC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cs.photographer.ru/nonstop/pics/pictures/623/62344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parhya.od.ua/_nw/0/s4083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46080" y="1794960"/>
            <a:ext cx="5927400" cy="1955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Деревянное зодчество Древней Рус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76000" y="3860640"/>
            <a:ext cx="655308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Фрагмент веранды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367344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ин из наиболее распространенных в Заонежье домов-комплексов, получивших название "кошель". Под одной крышей объединены избы, кладовые, сараи, скотные дворы с хлевом и сеновалы. Нарядная часть дома, обращенная к озеру, отводилась под                           жил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Дом Ошевнева (фрагмент веранды), 1876. Деревня Ошевнево"/>
          <p:cNvPicPr/>
          <p:nvPr/>
        </p:nvPicPr>
        <p:blipFill>
          <a:blip r:embed="rId1"/>
          <a:stretch/>
        </p:blipFill>
        <p:spPr>
          <a:xfrm>
            <a:off x="3851280" y="2349360"/>
            <a:ext cx="5108400" cy="31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уздальский хра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672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Русское средневековое зодчество - одна из наиболее ярких страниц в истории культуры Руси. Памятники архитектуры наполняют живым, образным содержанием наши представления о развитии культуры, помогают понять многие стороны истории, не нашедшие отражения в письменных источниках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12" descr="Картинка 1 из 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1628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тория изучен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56000" y="1268280"/>
            <a:ext cx="4176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рия зодчества Древней Руси - молодая наука. Еще в XVIII в. памятники древнерусской архитектуры обычно называли готическими. Сам термин свидетельствует, что памятники эти отличали от построек античного и нового времени, но не отделяли от архитектуры других стран, не видели национальной специфики русского зодчества. Средневековые памятники в продолжение всего XVIII в. считали варварскими, памятниками дурного вкуса, недо­стойными изуч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8" descr="Картинка 15 из 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4840" y="1341360"/>
            <a:ext cx="3833640" cy="511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Часовня Михаила Архангела, XVII-XVIII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3414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асовня Архангела Михаила из деревни Леликозеро - одна из архитектурных жемчужин Русского Севера. Кроме того, как и многие другие часовни, она была самым красивым строением деревни и дарила жителям немало светлых, праздничных мину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7" descr="Часовня Михаила Архангела, XVII-XVIII в."/>
          <p:cNvPicPr/>
          <p:nvPr/>
        </p:nvPicPr>
        <p:blipFill>
          <a:blip r:embed="rId1"/>
          <a:stretch/>
        </p:blipFill>
        <p:spPr>
          <a:xfrm>
            <a:off x="4067280" y="2060640"/>
            <a:ext cx="4309920" cy="329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ознесенская кубоватая церковь, 1669 г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9800" y="1828440"/>
            <a:ext cx="4065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побережье Белого моря тип кубоватого храма был широко распространен. Кубом называют сложную форму покрытия, напоминающую четырехгранную луковицу. Отличительная особенность архитектурного облика северных кубоватых церквей - их красота, изящество и гармо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7" descr="Вознесенская кубоватая церковь, 1669 г. Село Кушерека Онежского района"/>
          <p:cNvPicPr/>
          <p:nvPr/>
        </p:nvPicPr>
        <p:blipFill>
          <a:blip r:embed="rId1"/>
          <a:stretch/>
        </p:blipFill>
        <p:spPr>
          <a:xfrm>
            <a:off x="324000" y="1700280"/>
            <a:ext cx="355104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ом-двор Русиновой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синовы - богатая купеческая семья XVII века. Точное время постройки сохранившихся палат неизвестно; предположительно, они были поставлены в середине XVII столет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7" descr="Дом-двор Русиновой. Деревня Кондратьевская."/>
          <p:cNvPicPr/>
          <p:nvPr/>
        </p:nvPicPr>
        <p:blipFill>
          <a:blip r:embed="rId1"/>
          <a:stretch/>
        </p:blipFill>
        <p:spPr>
          <a:xfrm>
            <a:off x="4211640" y="2060640"/>
            <a:ext cx="4932360" cy="3611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асовня Трех Святителей, XVII в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428292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самом высоком холме лесистой местности в Кондопожском районе Карелии когда-то располагалась деревня Кавгора. Здесь, окруженная кольцом валунов, в соседстве с елями-великанами высилась часовня Трех святителей: Василия Великого, Иоанна Златоуста, Григория Богослов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Часовня Трех Святителей, XVII в. Деревня Кавгора"/>
          <p:cNvPicPr/>
          <p:nvPr/>
        </p:nvPicPr>
        <p:blipFill>
          <a:blip r:embed="rId1"/>
          <a:stretch/>
        </p:blipFill>
        <p:spPr>
          <a:xfrm>
            <a:off x="684360" y="1700280"/>
            <a:ext cx="36018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mic Sans MS"/>
              </a:rPr>
              <a:t>Дом Сергеевой из деревни Липовицы, конец XIX - начало XX вв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349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ипичный заонежский дом, построенный на рубеже веков, в котором старинные конструктивные приемы сочетаются с новыми тенденциями деревянного зодчества. Прекрасный образец народного строительного искус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Дом Сергеевой из деревни Липовицы, конец XIX - начало XX вв."/>
          <p:cNvPicPr/>
          <p:nvPr/>
        </p:nvPicPr>
        <p:blipFill>
          <a:blip r:embed="rId1"/>
          <a:stretch/>
        </p:blipFill>
        <p:spPr>
          <a:xfrm>
            <a:off x="4464000" y="1844640"/>
            <a:ext cx="4680000" cy="40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рхитектурный ансамбль Спасского Кижского погоста, XVII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"Погост Спасский на Кижах на Онеге озере. А на погосте церковь Преображенье спасово, а другая церковь Покров Святии Богородицы" (из писцовой книги московского дьяка Андрея Плещеева о заонежских погостах 1582-1583 гг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7" descr="Архитектурный ансамбль Спасского Кижского погоста, XVII в."/>
          <p:cNvPicPr/>
          <p:nvPr/>
        </p:nvPicPr>
        <p:blipFill>
          <a:blip r:embed="rId1"/>
          <a:stretch/>
        </p:blipFill>
        <p:spPr>
          <a:xfrm>
            <a:off x="179280" y="2060640"/>
            <a:ext cx="4608720" cy="41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08:47:45Z</dcterms:created>
  <dc:creator>Admin</dc:creator>
  <dc:description/>
  <dc:language>en-US</dc:language>
  <cp:lastModifiedBy>0</cp:lastModifiedBy>
  <dcterms:modified xsi:type="dcterms:W3CDTF">2020-11-27T09:58:35Z</dcterms:modified>
  <cp:revision>10</cp:revision>
  <dc:subject/>
  <dc:title>Золотое сечение в архитектуре.</dc:title>
</cp:coreProperties>
</file>